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685360"/>
            <a:ext cx="296712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7DF68-4573-41C3-A220-9EEA7134570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47B48-2E5B-4661-9FB9-58B7D2A1BF9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D4B63-85D3-4E27-BC96-1DA9B6EC6A8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ED4B-8D5E-46B9-8090-A9F264B7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0371-FB8F-4CEB-B122-AF3A189A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ED3F-48BE-4F02-9FD0-3607B1B69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807B-BF3A-404C-B6D6-0BFE8B60F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3FB5-34CB-4AFE-816C-6CAEB813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9D2C-8B90-46FB-933E-C9835832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6FA5-F49C-4507-A2E8-C113C899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923B-0C12-49C7-8461-88853B0B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3F5A-5FF3-4EEA-AE9D-C9B486EB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75D3-0091-4467-9A49-BB87B60B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CA37-12B9-478F-838A-39F87C87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B9DE-42C9-4892-831D-CA7E66C5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287EBB6-56BD-4A52-A112-D7FF9677B11B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7431120" y="6278400"/>
            <a:ext cx="1712880" cy="5796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179280" y="278136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8000"/>
                </a:solidFill>
                <a:latin typeface="Arial"/>
              </a:rPr>
              <a:t>CÓMO CIRCULA LA MA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8000"/>
                </a:solidFill>
                <a:latin typeface="Arial"/>
              </a:rPr>
              <a:t>EN UN ECOSIST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187280" y="189000"/>
            <a:ext cx="59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os ecosiste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 rot="5400000">
            <a:off x="-511200" y="510840"/>
            <a:ext cx="2209680" cy="11872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1619280" y="1144440"/>
            <a:ext cx="7061040" cy="4579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7431120" y="624852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1116000" y="189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Cómo circula la materia en un ecosist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 rot="5400000">
            <a:off x="-511200" y="510840"/>
            <a:ext cx="2209680" cy="11872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0" y="0"/>
            <a:ext cx="900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81080" y="2195640"/>
            <a:ext cx="1763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productores consumen materia inorgánica del medio y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transforman en materia orgánic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859280" y="765000"/>
            <a:ext cx="40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materia fabricada por los productores va pasando por los niveles trófic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095640" y="5651640"/>
            <a:ext cx="579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restos de los seres vivos son aprovechados por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descomponedores, que transforman la materia orgánica de nuevo en inorgánic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9"/>
          <p:cNvSpPr/>
          <p:nvPr/>
        </p:nvSpPr>
        <p:spPr>
          <a:xfrm>
            <a:off x="1619280" y="2879640"/>
            <a:ext cx="1079640" cy="179640"/>
          </a:xfrm>
          <a:prstGeom prst="rightArrow">
            <a:avLst>
              <a:gd name="adj1" fmla="val 50000"/>
              <a:gd name="adj2" fmla="val 150251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10"/>
          <p:cNvSpPr/>
          <p:nvPr/>
        </p:nvSpPr>
        <p:spPr>
          <a:xfrm rot="15960000">
            <a:off x="4833000" y="5200920"/>
            <a:ext cx="870120" cy="179280"/>
          </a:xfrm>
          <a:prstGeom prst="rightArrow">
            <a:avLst>
              <a:gd name="adj1" fmla="val 50000"/>
              <a:gd name="adj2" fmla="val 121335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11"/>
          <p:cNvSpPr/>
          <p:nvPr/>
        </p:nvSpPr>
        <p:spPr>
          <a:xfrm rot="5640000">
            <a:off x="5464800" y="1892880"/>
            <a:ext cx="1079640" cy="179280"/>
          </a:xfrm>
          <a:prstGeom prst="rightArrow">
            <a:avLst>
              <a:gd name="adj1" fmla="val 50000"/>
              <a:gd name="adj2" fmla="val 150552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12"/>
          <p:cNvSpPr/>
          <p:nvPr/>
        </p:nvSpPr>
        <p:spPr>
          <a:xfrm rot="2700000">
            <a:off x="6051240" y="1523880"/>
            <a:ext cx="509400" cy="179640"/>
          </a:xfrm>
          <a:prstGeom prst="rightArrow">
            <a:avLst>
              <a:gd name="adj1" fmla="val 50000"/>
              <a:gd name="adj2" fmla="val 70892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14 CuadroTexto"/>
          <p:cNvSpPr/>
          <p:nvPr/>
        </p:nvSpPr>
        <p:spPr>
          <a:xfrm>
            <a:off x="395280" y="1844640"/>
            <a:ext cx="36036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15 CuadroTexto"/>
          <p:cNvSpPr/>
          <p:nvPr/>
        </p:nvSpPr>
        <p:spPr>
          <a:xfrm>
            <a:off x="4500720" y="836640"/>
            <a:ext cx="3585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16 CuadroTexto"/>
          <p:cNvSpPr/>
          <p:nvPr/>
        </p:nvSpPr>
        <p:spPr>
          <a:xfrm>
            <a:off x="2627280" y="5661000"/>
            <a:ext cx="360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2:34:24Z</dcterms:created>
  <dc:creator>Eva</dc:creator>
  <dc:description/>
  <dc:language>en-US</dc:language>
  <cp:lastModifiedBy>Anaya</cp:lastModifiedBy>
  <dcterms:modified xsi:type="dcterms:W3CDTF">2011-07-26T08:35:22Z</dcterms:modified>
  <cp:revision>15</cp:revision>
  <dc:subject/>
  <dc:title>Diapositiva 1</dc:title>
</cp:coreProperties>
</file>